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257E-25C9-4A5C-A9DA-BFE1D0E5BA6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God op nummer 1 – Huwelijk en gezin op no. 2 – Werk en kerk op no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Laten we voor de spiegel of beter……voor God gaan staan met de bede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Bede: Laat ons zien Heere of er bij mij een schadelijke weg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908-BECB-4145-AEB7-4C98671F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ECA0-75D0-4930-91F3-73013317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3F9-9CCD-4676-ACFF-81E41759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761F-C8C3-433D-9D82-7E63851D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2C03-E691-495D-B41A-516A1FA3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AAFE-E31D-4333-984F-80D179B0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8A5E-DB36-4647-9D3A-84388903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C890-87F8-4B96-801B-A9DCA4EE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1990-3B07-4AD8-8D1A-FD81416A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728D-AA51-4997-9889-57055778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75D8-23F5-498F-BE9C-1311AAED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4D70-CBAF-408A-851A-00AD4EFB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B8F3-7E66-4AD7-9363-44A03BD1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2160-993B-4710-BECC-D0A21295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7913-D3BF-49F2-85A0-EF6C2579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720F-242F-422E-961C-6E2BA55D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2FE4-D50F-458F-B5F3-0B452964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AA879-649D-4AB7-9315-550CC005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B0E40-7341-4047-A18E-35D45B99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B738F-8CC5-47EE-8AF8-F9EF2BFB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773D8-0620-4E38-9EDE-C5F2CB57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6A14A-E6BF-4358-844B-5A2047A2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ADE4-D92F-4ABB-8CB1-60779A90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001D7-3E66-47E3-B21F-6A227B92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C5F01-ABD5-49D1-9059-4EC027B7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DF7F8-E5F9-4E71-A36A-606CC1BA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2CCBC-D43C-491A-B642-BFF2E76D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2EF9F-8CAD-465A-9382-CF68A841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7E44F-050C-4721-8DB0-8CF095E3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57C11-A78C-4115-97E0-D383871E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401-57D0-472C-AEEF-994BAA38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F2F0-450F-41C2-8C7A-E9C2B14E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4AD8-FAB4-425F-A2E4-97EDCF87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473-CA30-4604-9A0C-0D3ACB48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B5CE-4E4A-4E13-8A98-EE642A3D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506-5822-4AD7-A426-35F116AD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D203-5282-47F4-846A-15F089A81FED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6" descr="roodschild_los.jpg"/>
          <p:cNvPicPr/>
          <p:nvPr/>
        </p:nvPicPr>
        <p:blipFill>
          <a:blip r:embed="rId2"/>
          <a:srcRect l="0" t="26622" r="0" b="38371"/>
          <a:stretch/>
        </p:blipFill>
        <p:spPr>
          <a:xfrm rot="8788800">
            <a:off x="-1126800" y="-271440"/>
            <a:ext cx="3121200" cy="1771560"/>
          </a:xfrm>
          <a:prstGeom prst="rect">
            <a:avLst/>
          </a:prstGeom>
          <a:ln w="0">
            <a:noFill/>
          </a:ln>
        </p:spPr>
      </p:pic>
      <p:pic>
        <p:nvPicPr>
          <p:cNvPr id="42" name="Afbeelding 9" descr="roodschild_los.jpg"/>
          <p:cNvPicPr/>
          <p:nvPr/>
        </p:nvPicPr>
        <p:blipFill>
          <a:blip r:embed="rId3"/>
          <a:srcRect l="0" t="26622" r="0" b="38371"/>
          <a:stretch/>
        </p:blipFill>
        <p:spPr>
          <a:xfrm rot="20985600">
            <a:off x="-1531440" y="3703680"/>
            <a:ext cx="11396520" cy="4967280"/>
          </a:xfrm>
          <a:prstGeom prst="rect">
            <a:avLst/>
          </a:prstGeom>
          <a:ln w="0">
            <a:noFill/>
          </a:ln>
        </p:spPr>
      </p:pic>
      <p:pic>
        <p:nvPicPr>
          <p:cNvPr id="43" name="Afbeelding 10" descr="hartenbeeldje_los (Large).png"/>
          <p:cNvPicPr/>
          <p:nvPr/>
        </p:nvPicPr>
        <p:blipFill>
          <a:blip r:embed="rId4"/>
          <a:stretch/>
        </p:blipFill>
        <p:spPr>
          <a:xfrm>
            <a:off x="7358040" y="4714920"/>
            <a:ext cx="1434960" cy="1785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44" name="Afbeelding 9" descr="HGJB-logo_support_wit.png"/>
          <p:cNvPicPr/>
          <p:nvPr/>
        </p:nvPicPr>
        <p:blipFill>
          <a:blip r:embed="rId5"/>
          <a:stretch/>
        </p:blipFill>
        <p:spPr>
          <a:xfrm>
            <a:off x="214200" y="142920"/>
            <a:ext cx="830520" cy="619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4CA8-7D74-4CC4-8ACC-14382FEC5869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fbeelding 9" descr="roodschild_los.jpg"/>
          <p:cNvPicPr/>
          <p:nvPr/>
        </p:nvPicPr>
        <p:blipFill>
          <a:blip r:embed="rId2"/>
          <a:srcRect l="0" t="26622" r="0" b="38371"/>
          <a:stretch/>
        </p:blipFill>
        <p:spPr>
          <a:xfrm rot="20985600">
            <a:off x="-1138320" y="3725640"/>
            <a:ext cx="10985760" cy="4786200"/>
          </a:xfrm>
          <a:prstGeom prst="rect">
            <a:avLst/>
          </a:prstGeom>
          <a:ln w="0">
            <a:noFill/>
          </a:ln>
        </p:spPr>
      </p:pic>
      <p:pic>
        <p:nvPicPr>
          <p:cNvPr id="87" name="Afbeelding 10" descr="hartenbeeldje_los (Large).png"/>
          <p:cNvPicPr/>
          <p:nvPr/>
        </p:nvPicPr>
        <p:blipFill>
          <a:blip r:embed="rId3"/>
          <a:stretch/>
        </p:blipFill>
        <p:spPr>
          <a:xfrm>
            <a:off x="7000920" y="4357800"/>
            <a:ext cx="1754280" cy="2182680"/>
          </a:xfrm>
          <a:prstGeom prst="rect">
            <a:avLst/>
          </a:prstGeom>
          <a:ln w="0">
            <a:noFill/>
          </a:ln>
        </p:spPr>
      </p:pic>
      <p:sp>
        <p:nvSpPr>
          <p:cNvPr id="88" name="Tekstvak 8"/>
          <p:cNvSpPr/>
          <p:nvPr/>
        </p:nvSpPr>
        <p:spPr>
          <a:xfrm>
            <a:off x="428760" y="585792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ntitledDemi"/>
              </a:rPr>
              <a:t>Avond 6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8E78-ED38-4A2C-8238-BCCB334CD226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38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139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140" name="Tekstvak 4"/>
          <p:cNvSpPr/>
          <p:nvPr/>
        </p:nvSpPr>
        <p:spPr>
          <a:xfrm>
            <a:off x="1071720" y="5500800"/>
            <a:ext cx="7429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1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AntitledDemi"/>
              </a:rPr>
              <a:t>Als er kinderen zijn</a:t>
            </a:r>
            <a:endParaRPr b="0" lang="en-US" sz="49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84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erhaal 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vloed op re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latie met de ki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oven met ki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nderen en de k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17200" y="44280"/>
            <a:ext cx="82184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Afrond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71" name="Afbeelding 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83840" y="1485720"/>
            <a:ext cx="754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uisopd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ntmo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74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175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176" name="Tekstvak 4"/>
          <p:cNvSpPr/>
          <p:nvPr/>
        </p:nvSpPr>
        <p:spPr>
          <a:xfrm>
            <a:off x="1071720" y="5500800"/>
            <a:ext cx="7429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7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262626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143080" y="2857680"/>
            <a:ext cx="5214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5e2206"/>
                </a:solidFill>
                <a:latin typeface="AntitledDemi"/>
              </a:rPr>
              <a:t>Avond 6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5e2206"/>
                </a:solidFill>
                <a:latin typeface="AntitledDemi"/>
              </a:rPr>
              <a:t>Samen geloven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4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Doelen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341360"/>
            <a:ext cx="7194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Hoe was het vroeger thui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Hoe belangrijk is samen gelove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eer tijd samen voor Go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eedoen in de christelijke gemeen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AntitledDemi"/>
              </a:rPr>
              <a:t>Samen bijbellezen</a:t>
            </a:r>
            <a:endParaRPr b="0" lang="en-US" sz="49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lp van G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stelijk wel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 voor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e bijbelgedeel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AntitledDemi"/>
              </a:rPr>
              <a:t>Samen bijbellezen</a:t>
            </a:r>
            <a:endParaRPr b="0" lang="en-US" sz="49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84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1 – Vragen stellen aan de Bijb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AntitledDemi"/>
              </a:rPr>
              <a:t>Samen bijbellezen</a:t>
            </a:r>
            <a:endParaRPr b="0" lang="en-US" sz="49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84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AntitledDemi"/>
              </a:rPr>
              <a:t>Samen bidden</a:t>
            </a:r>
            <a:endParaRPr b="0" lang="en-US" sz="49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84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AntitledDemi"/>
              </a:rPr>
              <a:t>Gewoonten thuis </a:t>
            </a:r>
            <a:endParaRPr b="0" lang="en-US" sz="49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11864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3560370000[1]"/>
          <p:cNvPicPr/>
          <p:nvPr/>
        </p:nvPicPr>
        <p:blipFill>
          <a:blip r:embed="rId1"/>
          <a:stretch/>
        </p:blipFill>
        <p:spPr>
          <a:xfrm>
            <a:off x="7643880" y="571680"/>
            <a:ext cx="933480" cy="904680"/>
          </a:xfrm>
          <a:prstGeom prst="rect">
            <a:avLst/>
          </a:prstGeom>
          <a:ln w="0">
            <a:noFill/>
          </a:ln>
        </p:spPr>
      </p:pic>
      <p:pic>
        <p:nvPicPr>
          <p:cNvPr id="163" name="Afbeelding 5" descr="Logo HGJB transparant.png"/>
          <p:cNvPicPr/>
          <p:nvPr/>
        </p:nvPicPr>
        <p:blipFill>
          <a:blip r:embed="rId2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AntitledDemi"/>
              </a:rPr>
              <a:t>Samen in de kerk</a:t>
            </a:r>
            <a:endParaRPr b="0" lang="en-US" sz="49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84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eving gemeen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j zijn de k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g en hart voor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ngrijk voor je huw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en hui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getuige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58:09Z</dcterms:created>
  <dc:creator>njansen</dc:creator>
  <dc:description/>
  <dc:language>en-US</dc:language>
  <cp:lastModifiedBy>Kees</cp:lastModifiedBy>
  <dcterms:modified xsi:type="dcterms:W3CDTF">2015-01-14T17:45:46Z</dcterms:modified>
  <cp:revision>43</cp:revision>
  <dc:subject/>
  <dc:title>Hart voor je huwelijk</dc:title>
</cp:coreProperties>
</file>